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8A2-639C-43B1-8F5C-D2CDF1C7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F69-6882-48B9-88D4-B4F48B8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291-73C0-4A41-A0FF-4CA59833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9CE-9818-4C9A-95C8-D42E5E2F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D5AD-37CF-4FF8-B8C8-62E4FAFA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6DB6-B20C-48B6-83BD-F63E0F66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C21E-D97C-4DAA-9220-646B8DC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42EB-8C79-4AC8-9089-DA50D90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C45-B9BF-4362-A1A0-71AAA895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0339-0645-4548-96E3-AF88B068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3661-7CE1-4C6A-9B9C-5FF7B54D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587-98F3-4D54-9322-E0D320B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469A-CB0F-4FFD-8980-06A6E62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D929-8A54-49CB-A7E7-69A4213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EE07-63CD-4956-ACB7-2C33456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CB19-E207-4029-AB53-2CDE082F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AD40-D257-45C5-B9EB-561FBDCE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83F-EFF9-4F8D-B36E-E890DEE7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C5F-96ED-46D4-A436-3BDF6BF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1C5-D08E-4D1B-A59B-EA84919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AA8-D68A-4C08-8E5A-678B56C9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F5F-927F-43CD-9296-B3B4D9F5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7F6-5075-4918-890E-4C96381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FC4-6FD6-4089-8952-E8A5746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3AE7-9E78-4644-879A-815347484C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7A5C-B7EA-42C9-9AC0-3523F6B8BE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Types of Computers &amp;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ainfra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314880" cy="3648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expensive computer capable of simultaneously processing data for hundreds or thousands of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tore, manage, and process large amounts of data that need to be reliable, secure, and cen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oused in a closet sized cabi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erv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“serv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that has the purpose of supplying its  users with data; usually through the use of a LAN (local area netwo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41560" cy="3803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Handhel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a PDA (Personal Digital Assista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uter that fits into a pocket, runs on batteries, and is used while holding the unit in your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sed as an appointment book, address book, calculator, and note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ynchronized with a personal microcomputer as a b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8227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0957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ystem uni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hat holds the power supply, storage devices, and the circuit boards (including the motherboa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66860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PU (Central Processing Unit)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502884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rocessing in a computer takes place, often called the brain of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458800" cy="294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that gather information and transform that information it into a series of electronic signals for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Keybo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ngement of letters, numbers, and special function keys that act as the primary input device 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89872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us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put device that allows the user to manipulate objects on the screen by moving the device along the surface of a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9528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ound C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cuit board that gives the computer the ability to accept audio input, play sound files, and produce audio output through speakers or headph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3056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that accepts input, processes data, stores data, and produces output, all according to a series of stored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the electronic and mechanical devices that process the data; refers to the computer as well as peripheral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uter program that tells the computer how to perform particular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r more computers and other devices that are connected, for the purpose of sharing data an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expand the computer’s input, output and storage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d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vice that sends and receives data to and from computers over telephone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0400" y="3371760"/>
            <a:ext cx="335268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ut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that display, print, or transmit the results of processing from the computer’s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79920" y="1600200"/>
            <a:ext cx="2241360" cy="218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device that forms an image by converting electrical signals from the computer into points of colored light on the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ensity of the grid used to display or print text and graphics; the greater the horizontal and vertical density, the higher the resolu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smallest unit in a graphic image; computer display devices use a matrix of pixels to display text and graphic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ppy or zip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Wr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299088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rin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 that produces text or graphical images on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4189320" cy="334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peak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572000"/>
            <a:ext cx="77724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s that receive signals from the computer’s sound card to play music, narration, or sound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97036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urc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ever is put into a computer syst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ers to the symbols that represent facts, objects, or ide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results of the computer storing data as bits and bytes; the words, numbers, sounds, and graphic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sts of the processing results produced by a comput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nipulation of the data in many way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temporarily holds data waiting to be processed, stored, or outpu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holds data on a permanent basis when it is not immediately needed for processi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ypes of Comput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sonal computer; designed to meet the computer needs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ess to a wide variety of computing applications, such as word processing, photo editing, e-mail, and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14800" cy="3460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esktop 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crocomputer that fits on a desk and runs on power from an electrical wall ou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PU can be housed in either a vertical or a horizont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eparate components (keyboard, mouse, etc.) that are each plugged in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aptop 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able, compact computer that can run on an electrical wall outlet or a battery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ponents (keyboard, mouse, etc.) are in one compact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ore expensive than a comparable desk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a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42900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orkstation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desktop computer designed for specialize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require a lot of processing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be an ordinary personal computer attached to a LAN (local area net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per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uter that was the fastest in the world at the time it was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would not be practical for other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ing c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ling weather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45:59Z</dcterms:created>
  <dc:creator>Michelle Guymon</dc:creator>
  <dc:description/>
  <dc:language>en-US</dc:language>
  <cp:lastModifiedBy>TMS</cp:lastModifiedBy>
  <dcterms:modified xsi:type="dcterms:W3CDTF">2004-11-03T19:14:55Z</dcterms:modified>
  <cp:revision>71</cp:revision>
  <dc:subject/>
  <dc:title>Types of Computers</dc:title>
</cp:coreProperties>
</file>